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drumroll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7.jpeg" ContentType="image/jpeg"/>
  <Override PartName="/ppt/media/cashreg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227-3A14-4846-A157-26A249EB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DB6-79CD-46F5-B19C-49F813C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790-05A5-4C13-A30F-8BC497AB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D05-7541-494E-A346-BBD252DB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D6F5-1BB1-4641-A508-D1269B8F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E02-59D3-47D5-8579-E18329F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29EC-737B-4C23-A469-097E1B0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5B2-98AD-40AE-9DB6-D6A8856C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3C3D-1D9A-47CB-9F52-41060CDC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D3BD-4CF7-4178-ABC0-E949C7D7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55CA-239D-45F0-9FCC-1A5EFDB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6D7-FDFB-4A78-86B0-15C2D4BA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A43C-47F7-4A53-93D5-EC4A862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E2C0-5012-40AE-8351-5CE98DA0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CAC-A7E7-4ED2-8608-A943E24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3ED-DA23-44B9-A74F-B1771764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D928-E0FC-41C5-8897-43C189EE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99E-A326-4F32-B713-18DD1E6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B5F-9A62-47E4-A6BC-9DA8E959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19F-EDA1-4006-A0A6-0AEDECA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31E-A626-495B-927B-4F8918D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B29-85C9-4979-ADD6-18BB3399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27A-3CC1-4AF0-8F84-5B643FA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6F4-DC8E-4F6C-A4DF-8711903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643-2C92-4E03-A34E-4B793476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C274-68AB-4DA7-A265-53E9F89977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9372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PENNSBURY MAN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Pennsbury Manor"/>
          <p:cNvPicPr/>
          <p:nvPr/>
        </p:nvPicPr>
        <p:blipFill>
          <a:blip r:embed="rId1"/>
          <a:stretch/>
        </p:blipFill>
        <p:spPr>
          <a:xfrm>
            <a:off x="2666880" y="403848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 Penn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24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3200400" y="22860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809880" y="1752480"/>
            <a:ext cx="430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Home of William Pen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merica’s foremost Quak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ounder of Pennsylvan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atesman and Diploma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ILLIAM PENN’S LIF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in England October 24, 16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ed Oxford University at 16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ed the Society of Friends (the Qua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 “The Charter of Privileg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ried twice with 15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oyages to Pennsylv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ased in 17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hoto-penn"/>
          <p:cNvPicPr/>
          <p:nvPr/>
        </p:nvPicPr>
        <p:blipFill>
          <a:blip r:embed="rId1"/>
          <a:stretch/>
        </p:blipFill>
        <p:spPr>
          <a:xfrm>
            <a:off x="7010280" y="4267080"/>
            <a:ext cx="1817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Bookman Old Style"/>
              </a:rPr>
              <a:t>Pennsylvania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681 received the Charter from King Charle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d after Sir Admiral Pen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silvania” means Penn’s W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he city of Philadelph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adelphia me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therly 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629400" y="45720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harter"/>
          <p:cNvPicPr/>
          <p:nvPr/>
        </p:nvPicPr>
        <p:blipFill>
          <a:blip r:embed="rId1"/>
          <a:stretch/>
        </p:blipFill>
        <p:spPr>
          <a:xfrm>
            <a:off x="5410080" y="4267080"/>
            <a:ext cx="3429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Bookman Old Style"/>
              </a:rPr>
              <a:t>Holy Experimen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590920"/>
            <a:ext cx="77724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447920" y="33526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1 dreams com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” is the ship that brought Penn to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ed in Pennsylvania 16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ed peace treaty with Indians under an El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mpum belt presented to Penn in November 1682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treaty"/>
          <p:cNvPicPr/>
          <p:nvPr/>
        </p:nvPicPr>
        <p:blipFill>
          <a:blip r:embed="rId1"/>
          <a:stretch/>
        </p:blipFill>
        <p:spPr>
          <a:xfrm>
            <a:off x="2971800" y="838080"/>
            <a:ext cx="4572000" cy="2498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144792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Bookman Old Style"/>
              </a:rPr>
              <a:t>Pennsbury Manor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’s country home is in Bucks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or House faces the Delawar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struction on foundation of origi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nished with items Penn ow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 left behind many letters, ledgers, and journals describing every day life at Penns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Pennsbury"/>
          <p:cNvPicPr/>
          <p:nvPr/>
        </p:nvPicPr>
        <p:blipFill>
          <a:blip r:embed="rId1"/>
          <a:stretch/>
        </p:blipFill>
        <p:spPr>
          <a:xfrm>
            <a:off x="3962520" y="5334120"/>
            <a:ext cx="30477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Bookman Old Style"/>
              </a:rPr>
              <a:t>Plantation Life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81080"/>
          <a:ext cx="7620120" cy="42973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Night Sleep Tigh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s on tables too valuable to place on the fl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eep tight don’t let the bed bugs bit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n’s favorite was hot 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s washed very seldo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the American” born at Pennsb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s used for medicine and fragr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working f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n’s barge traveled from  Philadelphia to Pennsb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SC02046[1]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opy of 6B Yearbook 025"/>
          <p:cNvPicPr/>
          <p:nvPr/>
        </p:nvPicPr>
        <p:blipFill>
          <a:blip r:embed="rId1"/>
          <a:stretch/>
        </p:blipFill>
        <p:spPr>
          <a:xfrm>
            <a:off x="1295280" y="66600"/>
            <a:ext cx="784872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00:28:41Z</dcterms:created>
  <dc:creator>GERALD YERKES</dc:creator>
  <dc:description/>
  <dc:language>en-US</dc:language>
  <cp:lastModifiedBy>lyerkes</cp:lastModifiedBy>
  <dcterms:modified xsi:type="dcterms:W3CDTF">2013-04-17T17:58:28Z</dcterms:modified>
  <cp:revision>36</cp:revision>
  <dc:subject/>
  <dc:title>WILLIAM PENN</dc:title>
</cp:coreProperties>
</file>